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259-1D85-469C-A41D-20BE2F34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7BC-955E-478B-9F3A-796621E1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A9D-76B7-4969-A889-7F827E25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DF6-3EB6-4D16-BBFE-8F4906B0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9D3-903A-4051-A692-83A184BE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AD1-83C3-47BE-92B7-CFD827D6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84F-3D62-4939-92D2-04E4B6BE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B06-CECB-4CA1-A454-0DBF1C84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F25-5708-4F31-BE54-A9DA7169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A76-135C-4E43-AFA8-3ED22282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05E-D036-4D7C-B8B5-03553CCF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F99-F7D4-45D8-983D-98BB0F10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FE87-DB29-4C4A-B631-A176DE9E8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8:22:20Z</dcterms:created>
  <dc:creator>Joudeh Center</dc:creator>
  <dc:description/>
  <dc:language>en-US</dc:language>
  <cp:lastModifiedBy>Joudeh Center</cp:lastModifiedBy>
  <dcterms:modified xsi:type="dcterms:W3CDTF">2010-10-29T18:44:30Z</dcterms:modified>
  <cp:revision>2</cp:revision>
  <dc:subject/>
  <dc:title>الشريحة 1</dc:title>
</cp:coreProperties>
</file>