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9FE-015C-4B2C-BE2B-06D20668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DDF-03DC-4460-9AAB-F8908E8A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E6A-394D-4145-ACC3-85620DE3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37C-4A76-4B08-B770-52BE70DD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B28-B72E-4DC5-B0D2-9B8E545A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20F-BCF8-4721-9E71-71CF5C5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50A-CA34-454C-A215-72F3B5D0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AB0-239F-4665-9A04-8CE1AEAA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FA5-6B6D-4433-8F7F-AF5CD1AD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33D-48BF-4E64-88E2-CA15F54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3B0-9099-44B9-9000-9B62281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31A-C372-470E-BCB1-FECB4E3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ACF-8940-4D6C-A11E-F0B45DCB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2:20Z</dcterms:created>
  <dc:creator>Joudeh Center</dc:creator>
  <dc:description/>
  <dc:language>en-US</dc:language>
  <cp:lastModifiedBy>Joudeh Center</cp:lastModifiedBy>
  <dcterms:modified xsi:type="dcterms:W3CDTF">2010-10-29T18:44:30Z</dcterms:modified>
  <cp:revision>2</cp:revision>
  <dc:subject/>
  <dc:title>الشريحة 1</dc:title>
</cp:coreProperties>
</file>