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85D-6655-49A1-A95A-28C561E8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A32-F83A-4A76-B58C-418F13D6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E9E-7F9D-4EFD-B1F3-F497A9DB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112-342B-45DB-BCA9-565642AF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619-44E4-4F49-8DC8-D33A723A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C09-DAC5-4B56-9F51-FE0F74B9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508-7DCB-4CF3-817C-858A908C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9D2-452A-4B89-B9F3-A97745E1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31A-B8B3-477A-A200-547D0F60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6BB-CBDD-4AEE-B286-A5DA798F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923-8581-40D3-B310-C606595B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B62-B580-4FF6-A162-73B9FA09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E38A-0BCE-4AB8-8192-688D63D9C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8:22:20Z</dcterms:created>
  <dc:creator>Joudeh Center</dc:creator>
  <dc:description/>
  <dc:language>en-US</dc:language>
  <cp:lastModifiedBy>Joudeh Center</cp:lastModifiedBy>
  <dcterms:modified xsi:type="dcterms:W3CDTF">2010-10-29T18:44:30Z</dcterms:modified>
  <cp:revision>2</cp:revision>
  <dc:subject/>
  <dc:title>الشريحة 1</dc:title>
</cp:coreProperties>
</file>