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B18-2201-49E1-97E5-F32A498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6DF-A9DA-4E54-A7F7-E1917A2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9E-6ABF-4BDF-90CD-A63ED1ED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5ED-0457-4596-9D20-259F046F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A2E-5002-4B5A-A0D4-20CB4B86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FC7-9B83-44EE-AC4D-AB75FF4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84C-3051-4C7C-8010-28085956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446-60F5-492B-B103-693BAE1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463-353F-4D87-A706-4E94511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F0D-27E6-4DA0-BB34-02FBE79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D81-C7C5-45A4-A900-C26472C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363-9156-47CC-B37C-D70A05B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D7F1-88A1-47D5-8800-6CCA1FE5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2:20Z</dcterms:created>
  <dc:creator>Joudeh Center</dc:creator>
  <dc:description/>
  <dc:language>en-US</dc:language>
  <cp:lastModifiedBy>Joudeh Center</cp:lastModifiedBy>
  <dcterms:modified xsi:type="dcterms:W3CDTF">2010-10-29T18:44:30Z</dcterms:modified>
  <cp:revision>2</cp:revision>
  <dc:subject/>
  <dc:title>الشريحة 1</dc:title>
</cp:coreProperties>
</file>